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65A3-26D7-4917-9049-E00788C59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5F48-D445-419F-899E-D985F013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B5C3-2509-4328-B733-F8E05E804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F95C-08AF-443B-A700-94DEDF74F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F73D-4766-4171-9BF0-B00FAE24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E35E-6AE6-41B6-B22A-BADCC2D7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2728-A250-461A-A37D-4B075A4D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A7F3-258C-43CB-A42E-5B4FB18A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5744-BA2E-4E1A-936B-E1C06696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45F3-6AFE-4C76-B312-538FF840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83AD-FC89-4392-A99F-FBBABC8B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4648-83DA-43D2-9EED-5D35F00F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EEAE-95B4-4DE0-BF42-F228A6800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ndy"/>
              </a:rPr>
              <a:t>letters &gt; sounds &gt; words &gt;sentences &gt;stories &gt; information</a:t>
            </a:r>
            <a:r>
              <a:rPr b="0" lang="en-US" sz="4800" spc="-1" strike="noStrike">
                <a:solidFill>
                  <a:srgbClr val="000000"/>
                </a:solidFill>
                <a:latin typeface="Andy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ndy"/>
              </a:rPr>
              <a:t>= the magic of rea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9880" y="4343400"/>
            <a:ext cx="155268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22:16:15Z</dcterms:created>
  <dc:creator>Patty</dc:creator>
  <dc:description/>
  <dc:language>en-US</dc:language>
  <cp:lastModifiedBy>Patty</cp:lastModifiedBy>
  <dcterms:modified xsi:type="dcterms:W3CDTF">2012-12-09T22:38:19Z</dcterms:modified>
  <cp:revision>3</cp:revision>
  <dc:subject/>
  <dc:title>Letters ~ sounds ~ words ~ sentences ~ stories ~ information = magic of reading</dc:title>
</cp:coreProperties>
</file>